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293-3F32-4510-86E8-CB1304F0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8ED-8F08-46A2-B7E4-08C88D42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CE57D-13B4-4E43-B231-4C8EA675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72B00-B4BD-4F07-AF44-30C09E67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DDCD2-813D-41E8-9406-C37C5B9D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C0A5C-4315-4208-B861-3B07E843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555D6-6589-44B8-AD3F-BEFBF2C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7234D-48BA-49DE-97D3-A0955706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2F5A1-790F-43D4-B6B3-E9C1BA99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773FF-A2C3-4BCB-B488-88A7EAEB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04913-5699-406E-AF94-3FFB97DC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4D787-C0CE-4528-8BA8-6D24FCB8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F1AB-EC2A-46C7-976F-B7B75700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CF04D-55B3-402E-A17C-0ADCC35C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D70C5-8FAE-43C6-AE77-5420B02A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1F0AC-977C-47CA-806B-1D908B8C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58123-D2F7-49AA-8407-C16FEF05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03129-925B-45AD-A9A3-771FD6DF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D4061-6BE6-4FF8-80B0-88CF714A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C6BDED-5EE1-431D-8CF7-EB8DFC23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CD2B5-B967-4DE5-8DE2-9F09100B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D3BA7-0F9E-4367-8A98-E5325C5B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356BE-366A-4F96-A63C-D5105AC3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A7D-14DF-4068-9F63-AF0D0853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DF20F-1A70-485E-B5D9-731774C4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2740C4-1919-4A65-9209-2E57CC17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387A2-9524-4E68-8832-4C384673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9728A-34D4-4746-8877-1D7D28AE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C1CEA-7E3D-4537-9D21-1ED32AEC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AA1EE-0A67-4551-B6B5-1E5978B1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AD26C-EB24-43FF-A376-6A7544C7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57716-51E8-4B40-A165-28FCDA98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910672-03BB-4BBE-A4A2-B77A6697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31B43-C8AF-445A-A31C-66E87811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1BD3-BACC-4659-82B7-5885F8D1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4B3A1-B80F-4235-917F-56F8D3FE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9BC8D-4B99-4C74-8BB2-F7D0DF85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6B6FA-469B-4722-9D63-54C0BAE0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35587-EF9B-4BBD-AA4D-A4CF0610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893F0-5846-4DC6-A344-69D57FCD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A4252-3769-490C-8AE8-5BE4FF99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F89DE-847A-41C0-83E2-27C4CD23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E533C-A535-453E-87B3-B74327BA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0B47F-A790-44EF-8F76-EF34AB054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B9004-4E25-4586-98F7-0DDA82DD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7861-AA42-45C8-AA9D-8D41D5FC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6A9DA-9312-4255-9D08-19E0227B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DBF13-C6AC-48E2-8158-EEC4BDF0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B407C7-1060-4125-9593-AD194EA2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8356B6-EA0A-4E71-9A89-E11346A0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ACFB4-F9EB-4BD0-98B6-5514D80C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6B6F2-195D-476C-A07D-22847B1DF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450E8-9CFA-4285-A3EA-33D79B48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1817F-24E2-43FA-8283-70EFA260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9BB36-8BA0-4A07-A08B-DCB35059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765D42-24C4-4B2A-9F4D-34A89B28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F0A7-A41A-45E3-BD88-F2D112DE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3473C-CAFC-4B5C-A2B0-6390EE77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E7085B-A6D3-42B9-A098-77929001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7309E-7100-4CA2-BACF-D7F47E1D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F74AD-6B4B-41FC-8F66-98EA6D43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BCBC6-9BFC-485C-8F1F-54E010C0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18AA9-E4BA-47A9-A3CF-AB4E6A53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BA952-BCB6-4964-8C02-BCCE302F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BB5753-C9C6-47FD-88EA-403DDB8D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785879-037B-4D17-BA3C-39315177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03111-A587-44CA-88E8-2D16478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66F8-F9A4-42B4-ADD5-6ED74510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15788-ACC3-4627-BAF3-9593905B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7FBECF-62B5-4733-9FA8-B919B980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26765-6EE0-466B-A33B-CB8B58D9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903BB7-2E70-4360-AAD5-ADB7FA79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15520-514D-4A50-B190-86D11635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0D86B-043F-4446-9CC4-B42F645E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A8D3F-77B8-45F1-8E3E-D20909F2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F8003-DCE3-49F6-A8E4-EB8815F8A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2BCDA1-8097-496C-BFC8-C67AF733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D3BB6-B2C5-45D4-8551-2D6DA796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5B6F-ECD8-447D-A216-1B7164CB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F4827-1761-43DE-BBC0-A5544EDF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DF175B-A14C-4C6E-B82E-F344ACD6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B80D4-73C7-4652-91A6-5A0359B9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66ACD7-BD6B-422D-A51E-01B0BC97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0B8942-AA2F-4DFC-96D1-D50F3B6B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D536F7-0EBB-4A83-BA14-C763AD16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E8673B-0C18-4AD5-85E0-350CD47E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58726-AE34-4752-A882-90F3E1AF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AF0465-B4EE-4969-A664-957425DD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374DB-D177-40DE-A673-D2EBB124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90D8-831D-49B5-990B-78114DCD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311E63-0CA8-438A-9DF0-3C4E6D0E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78BE68-A748-49A9-81AE-AF114032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EE185-E5F8-4B76-9CAE-64A5BD10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E97C92-BC3C-4740-B270-5B056F2D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4FFA3-12F6-4AE4-8BBF-91193E39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631200-7E3C-44A2-AFA2-CEC74A8F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3BAD11-1E1D-40FA-9FA5-AB0944FF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9457A2-5F61-4025-8DE5-750490C8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A6DBB-A358-4E15-AB9A-129C6D8B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11407-DE2B-4369-BBF3-57F620CD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242E-BF21-4E97-B068-53B37276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461D3-9DB0-414B-9FF5-E0DB5464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A4D6BC-2CCF-4164-8217-197782BF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30226-3560-4FDB-9326-D9E9A0C0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6E95E7-E627-405B-8808-078F9FA9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254CA-BBB3-4326-B370-7E7BFC95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38EB4-46D5-42BB-B827-E48010BF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530832-B0AA-47AF-84D8-17BD0BE3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0D32B-554B-4011-B98C-643F0F60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4A5190-DF22-4CBB-A03B-D4F4D767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8B1B4-127B-478A-AE1C-8C497427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B710-CED8-4215-A54F-0AEC9BD3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E5A4-CC73-4B8B-A4C8-D27A730C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559A94-73C1-4647-AF7C-75F549CA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719D6-22A3-4054-8400-63ECA056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8D279A-7B7D-4FF4-BA0B-78141991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0CB61F-48FA-4C24-B6A8-C5F610DD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0CB19-CA44-47BB-A734-7028C1B2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71E8E-E91F-48B5-B1EF-28C15398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B97A2F-326E-44AF-B4A1-C6728838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D35693-E370-4763-88DA-5B400E9B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DF942-CEBA-440D-91A1-3D514778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1DDFE-2FF9-4C08-B1C3-A69C7E530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3952-C476-4500-AA44-C17A2211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31B3C8-4EBD-4038-AB75-F22B72ED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AA1177-EA3F-45CE-99C2-8379B2FE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D328A2-8F0B-4F28-85BB-B0B4A344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DDE666-4DD1-443C-AC32-A9293E94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EF331-AF68-4A88-A1F3-F32304DB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8F5572-AEAE-4A03-B5CF-372F1AEA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C23027-9C5B-466C-B31B-043A9F57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00106C-F9B5-4C36-9266-FCCB1B40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01BC4-E966-42CD-AE86-E5B891BC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86827-4D33-4CC2-98A9-53EE155E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14CE-ACCD-4A8B-A0CE-B79952EF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7E8DD1-AF92-4743-82C3-DB529B78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E18AF4-DDC5-43E7-ADF2-FE82CFBD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C17E2-5631-4528-BB27-F60F8C5D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E87063-B7FC-483A-985D-AAC0B46A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925469-0D6B-41A1-944D-376A15E7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05DDE-9305-40E3-A8BC-5AB91969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54A02B-4E28-49FC-9BB7-ACC8EA33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A2BCD9-195C-46B9-8F6A-275F9F9E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718D7-7E4A-4F73-ACF0-D64A0D7DE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4BFB1A-2845-4611-AE69-93D4424F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D98A-D0C7-4EBE-8343-BECEA549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B8FC08-2021-4A5B-A186-A23EA613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6F285D-C0F4-44F5-9431-548A41E5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424511-CC32-45B5-9C3E-8071DA4E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67444-890B-4206-BB09-9B4F9BCE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D26268-E21B-4173-A644-A85FE804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40F39-DBA8-4BA7-BC89-2F9B16EB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4A8187-5218-4F87-BC86-2EE415D9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0F16D7-CB6C-4E5C-A282-D52F21BD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A0663E-82A6-4462-8558-895D57A0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421E6-6455-4819-BB31-E69BB2B2A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52BB-EDDB-444A-A3AD-312FF68D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9FF472-5F78-43A2-B99C-E384CAF0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F01AA5-8ABE-4CF8-BE45-2EBE031C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46BF83-A9FE-4F97-A2CF-09D79DF5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ECB830-7934-4FB7-97C3-C695C610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450260-3121-4186-8942-A81B5F10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0B9207-2E87-42C3-BD91-2798DAAC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189435-B45F-4C03-962E-BA81C076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8F9D3A-15B3-4BA3-894A-F7C7A99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D2B36-1AB7-4C1D-A429-0176751C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1097B9-E19A-403F-A8EF-8C350B39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B962-9A90-4DD8-90BF-EABD3BBD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27FEB5-F5C8-46DC-8C61-6FBEB54F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A07834-F37D-4409-B5E0-9587A51C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66F95A-8D7E-4B38-B3D7-850E3977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A1437-4FB0-431C-8AF1-11B4BD9B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FD11-52E5-4102-B195-45ED8FD8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2C33C-DAD5-45ED-B119-9B4DC4D6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7838A-C3E7-458B-9F00-30FB197B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E4A-F586-46BF-A009-F55982BB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B1CC-0D83-4CAE-9AE7-CCA45FCA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BDED-E435-4446-A5D7-258F3A2E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4850-B966-44B2-83BC-99D4AE8A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E1B5-70C1-44E9-99C5-FDAAADCF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B1AB-55F6-4BFD-880E-F53B77AF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F8B06-19BB-4E44-A811-35D0C43B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C561-979C-4A52-BE94-D0ACF312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09B7B-F8F5-4337-AF7E-5FCC3840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1C9BB-B0ED-43E3-81F3-A8AAAD2E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9C7C6-702A-4F5E-B7D3-F1C72046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60A-FE17-4BB3-9F97-7B9224CA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94814-F0A8-4E4B-BAEB-807A1FA3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67CEF-FB78-408D-95ED-57025CF7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AEAF-8D0F-476E-A577-CFAF85FE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EEA2E-4703-44C2-9F57-8DA780BB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7C88B-F660-42AF-BFE4-0980D01F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7E59D-F753-4612-ADE7-CCA6E1A1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EC39A-8AF2-40E7-875A-D409557E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5C555-E55F-40E5-8629-5CEB3A0B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DB722-9BEE-439D-8688-DDE71580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894BD-47D1-4A47-8903-DC59A01B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02B-3222-40DB-97FE-9C3A2806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584B6-F93D-4ACD-99FF-4ABCD285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F9802-A060-4842-8146-91B8F4F5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C1C75-EC6D-44D0-9079-51AD30C4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A777F-F07F-4CEA-9E9F-7FE9CBBB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D88F9-2B91-4AF4-AE76-75A78A4C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66698-BC8E-415D-8D08-6EE3B75A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E98DB-FAD7-4554-B093-04E3886A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98689-D77B-4F2A-92E7-A903C2C3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1EFA2-6701-4B30-9653-461F19BB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E1FC-ABDA-4601-8743-2277C922C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A16-9632-48A9-A9B6-BA029196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530DC-0966-465C-BAD7-A658171A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8F6E3-6F32-408C-B306-976DD201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DFC6C-AC43-45BF-B69E-A1ECB274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D6C53-BFDC-4EB8-B3D3-F73515FC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47DAA-4438-4CE4-BC43-63824EBA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895EC-D61A-4609-B8D3-50CFB9A21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BF83D-0B4C-423E-8FA1-241BB785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A117C-22C3-4E60-839F-DEBFAE82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D55A4-AFDE-41E2-BD46-8D21EC33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9E59B-7624-45F6-8E45-3A811F74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B6B-4438-40DA-A211-FAF0D728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C273E-E399-4BA3-BEA7-3E1C662E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EF69A-9822-464B-9C70-09343B04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1FB21-F492-44A5-AED3-250D6B55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3241F-F515-4E8A-BB48-BFF814218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73366-F60B-44C4-9799-BAC05147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D2E9F-6F5E-4037-812F-91385869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4E09E-B2AA-4374-A167-6244DDB6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9A7E7-6CC9-4DBF-AA4E-A511E924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4C737-9425-4195-A8B3-23FC9994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5FA56-0BD0-49F7-BE67-0AD7B1D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8140-F4B5-4F82-B5A5-72B2F99F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E2519-105C-41A8-A2AC-205931BC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33393-2210-48BD-9702-8AC60F4E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DEDF2-A92F-42FF-9C9D-C09BBFF61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D7F04-3C09-46D2-91BD-645CD86D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1448D-465B-4B0A-9D13-8078BE16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27075-1550-4BC4-9811-8FB64D9B2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0B4F3-59B9-408E-810E-F0BBDD02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8A90-5B28-4F2A-B838-E2CAE8D5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5DCA7-82D3-4CA0-A527-0EE60EA6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48EC9-0B3E-42CA-B440-0759813B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775-EA5B-450C-B52D-6AA54CA9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7D7C-00FB-4FA2-839B-E745D194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9FDD4-B9F4-4F69-B8FF-10EB109C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5333E-5D5F-46B8-BF7D-507AF28B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6FAED-9398-4CE1-8E9A-89AF2D9F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848BF-7376-4D93-93A5-B487D5A2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0319E-5301-4322-9105-E5E7169FE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F603A-C79F-424A-AEC5-C137CEF8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9E7F8-0EA9-4B56-81C6-11C824F0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C38AA-7A88-4616-9158-91E0A457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F8342-DBCE-44F9-88A5-27114974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1C47-A877-4BA5-AB6E-E35B369EF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6A68-793B-40D4-8B55-1F77F6FFB9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EC1B-0738-415F-BA40-B12071245C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97A0-30FF-4F32-AB22-BF825FF5B9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A3A5-7FF4-4C97-89BB-17B1E9EC2B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401E-F581-4440-BDF2-F1E8D850B8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8CE0-AB9A-43AC-A2ED-E14BC48FC3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3202-2A6B-4A69-AC23-6C9ED60B96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8150-6213-4DEB-8D8C-5FD13071BB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2582-3ED1-4FEF-BFFC-5A81D63669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F496-534E-4141-BBB5-06AF55FB9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50A5-1654-4145-8306-BAA6F62A0B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E5AF-E4B0-43C4-9E1D-B1964FD3B1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410F-BCAC-4DD5-B6DD-F46EBCF23E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5FAD-6E83-4CF4-AC56-1064A3258F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FA56-760A-4A51-BDFE-7A143001F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18A2-8B21-4626-BEAB-7B246AB38F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B91B-6A8A-4CBE-BFEF-8ED614169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E906-DFD2-4277-8EA7-C264D0CB3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50E3-77B3-4AF4-BF9B-383EC8FBAB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A2E0-FA53-4C79-99F6-3711AE1045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5A36-7A77-448C-8EF6-10A9F59706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1990-04D5-48F3-85E1-1FB9AAE373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158A-EA53-4CB5-861C-4C81EB492F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FE72-974B-4317-AB2D-1E30DFB75B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6522-5F05-4117-AF64-7D0C3111DE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5F54-2A7D-408F-B81E-EFD7B6F16E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233E-BC17-40FA-93A7-C85C57997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D5DE-62CA-4AE3-8D08-05E63F6A05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D251-2F62-45F5-AD87-AB78280FE5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8EBF-CE79-45E5-9BBC-1A3006E22C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3FAB-19CE-4014-857D-7B772AD655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28E5-44AC-45F5-ADC6-6448A5EC06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FBCF-0BCB-47A8-9EA5-14BC9845B9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660B-89C2-45A2-A011-0B1B5BA363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CA86-8BF1-4EA8-A07B-920D2F9ED5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B549-D741-4484-933E-E8B8610DAB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4D1E-5756-4019-AEE8-19D21C5F45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C4B7-4D3E-4476-8837-4E7C61B063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6AAA-EA08-4237-81F8-59AB20427D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95400" y="2604960"/>
            <a:ext cx="895320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9" name="Picture 1" descr=""/>
          <p:cNvPicPr/>
          <p:nvPr/>
        </p:nvPicPr>
        <p:blipFill>
          <a:blip r:embed="rId1"/>
          <a:stretch/>
        </p:blipFill>
        <p:spPr>
          <a:xfrm>
            <a:off x="539640" y="1069920"/>
            <a:ext cx="8267760" cy="14954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2" descr=""/>
          <p:cNvPicPr/>
          <p:nvPr/>
        </p:nvPicPr>
        <p:blipFill>
          <a:blip r:embed="rId2"/>
          <a:stretch/>
        </p:blipFill>
        <p:spPr>
          <a:xfrm>
            <a:off x="133200" y="2936880"/>
            <a:ext cx="8877600" cy="33717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4" descr=""/>
          <p:cNvPicPr/>
          <p:nvPr/>
        </p:nvPicPr>
        <p:blipFill>
          <a:blip r:embed="rId3"/>
          <a:stretch/>
        </p:blipFill>
        <p:spPr>
          <a:xfrm>
            <a:off x="755640" y="10126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4" descr=""/>
          <p:cNvPicPr/>
          <p:nvPr/>
        </p:nvPicPr>
        <p:blipFill>
          <a:blip r:embed="rId4"/>
          <a:stretch/>
        </p:blipFill>
        <p:spPr>
          <a:xfrm>
            <a:off x="768240" y="181116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25" name="Picture 1" descr=""/>
          <p:cNvPicPr/>
          <p:nvPr/>
        </p:nvPicPr>
        <p:blipFill>
          <a:blip r:embed="rId1"/>
          <a:stretch/>
        </p:blipFill>
        <p:spPr>
          <a:xfrm>
            <a:off x="295200" y="2462040"/>
            <a:ext cx="8553600" cy="19339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4" descr=""/>
          <p:cNvPicPr/>
          <p:nvPr/>
        </p:nvPicPr>
        <p:blipFill>
          <a:blip r:embed="rId2"/>
          <a:stretch/>
        </p:blipFill>
        <p:spPr>
          <a:xfrm>
            <a:off x="6059520" y="2824200"/>
            <a:ext cx="2857320" cy="3157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"/>
          <p:cNvPicPr/>
          <p:nvPr/>
        </p:nvPicPr>
        <p:blipFill>
          <a:blip r:embed="rId3"/>
          <a:stretch/>
        </p:blipFill>
        <p:spPr>
          <a:xfrm>
            <a:off x="214200" y="3214800"/>
            <a:ext cx="8786880" cy="3157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4" descr=""/>
          <p:cNvPicPr/>
          <p:nvPr/>
        </p:nvPicPr>
        <p:blipFill>
          <a:blip r:embed="rId4"/>
          <a:stretch/>
        </p:blipFill>
        <p:spPr>
          <a:xfrm>
            <a:off x="214200" y="3613320"/>
            <a:ext cx="8786880" cy="3157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4" descr=""/>
          <p:cNvPicPr/>
          <p:nvPr/>
        </p:nvPicPr>
        <p:blipFill>
          <a:blip r:embed="rId5"/>
          <a:stretch/>
        </p:blipFill>
        <p:spPr>
          <a:xfrm>
            <a:off x="214200" y="4008600"/>
            <a:ext cx="878688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3490920" y="1577880"/>
            <a:ext cx="2162160" cy="266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2" descr=""/>
          <p:cNvPicPr/>
          <p:nvPr/>
        </p:nvPicPr>
        <p:blipFill>
          <a:blip r:embed="rId2"/>
          <a:stretch/>
        </p:blipFill>
        <p:spPr>
          <a:xfrm>
            <a:off x="119160" y="2598840"/>
            <a:ext cx="8905680" cy="29908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752400" y="29750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4"/>
          <a:stretch/>
        </p:blipFill>
        <p:spPr>
          <a:xfrm>
            <a:off x="727200" y="33544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727200" y="37530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6"/>
          <a:stretch/>
        </p:blipFill>
        <p:spPr>
          <a:xfrm>
            <a:off x="727200" y="41720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7"/>
          <a:stretch/>
        </p:blipFill>
        <p:spPr>
          <a:xfrm>
            <a:off x="727200" y="459108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128520" y="1947960"/>
            <a:ext cx="8886960" cy="33526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2"/>
          <a:stretch/>
        </p:blipFill>
        <p:spPr>
          <a:xfrm>
            <a:off x="755640" y="23446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730080" y="27241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4"/>
          <a:stretch/>
        </p:blipFill>
        <p:spPr>
          <a:xfrm>
            <a:off x="730080" y="31226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5"/>
          <a:stretch/>
        </p:blipFill>
        <p:spPr>
          <a:xfrm>
            <a:off x="730080" y="35416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6"/>
          <a:stretch/>
        </p:blipFill>
        <p:spPr>
          <a:xfrm>
            <a:off x="730080" y="396072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142920" y="1125360"/>
            <a:ext cx="8858160" cy="25815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" descr=""/>
          <p:cNvPicPr/>
          <p:nvPr/>
        </p:nvPicPr>
        <p:blipFill>
          <a:blip r:embed="rId2"/>
          <a:stretch/>
        </p:blipFill>
        <p:spPr>
          <a:xfrm>
            <a:off x="1042920" y="3660840"/>
            <a:ext cx="7477200" cy="1638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3"/>
          <a:stretch/>
        </p:blipFill>
        <p:spPr>
          <a:xfrm>
            <a:off x="304920" y="5402160"/>
            <a:ext cx="8534160" cy="1266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5286240" y="27399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5"/>
          <a:stretch/>
        </p:blipFill>
        <p:spPr>
          <a:xfrm>
            <a:off x="6556320" y="27352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6"/>
          <a:stretch/>
        </p:blipFill>
        <p:spPr>
          <a:xfrm>
            <a:off x="2971800" y="32814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7"/>
          <a:stretch/>
        </p:blipFill>
        <p:spPr>
          <a:xfrm>
            <a:off x="5370480" y="32860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8"/>
          <a:stretch/>
        </p:blipFill>
        <p:spPr>
          <a:xfrm>
            <a:off x="4140360" y="38019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9"/>
          <a:stretch/>
        </p:blipFill>
        <p:spPr>
          <a:xfrm>
            <a:off x="7724880" y="38019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10"/>
          <a:stretch/>
        </p:blipFill>
        <p:spPr>
          <a:xfrm>
            <a:off x="2971800" y="43401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11"/>
          <a:stretch/>
        </p:blipFill>
        <p:spPr>
          <a:xfrm>
            <a:off x="7745400" y="43243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12"/>
          <a:stretch/>
        </p:blipFill>
        <p:spPr>
          <a:xfrm>
            <a:off x="4140360" y="48610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13"/>
          <a:stretch/>
        </p:blipFill>
        <p:spPr>
          <a:xfrm>
            <a:off x="6572160" y="485784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Picture 1" descr=""/>
          <p:cNvPicPr/>
          <p:nvPr/>
        </p:nvPicPr>
        <p:blipFill>
          <a:blip r:embed="rId1"/>
          <a:stretch/>
        </p:blipFill>
        <p:spPr>
          <a:xfrm>
            <a:off x="3471840" y="1052640"/>
            <a:ext cx="2200320" cy="2854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2" descr=""/>
          <p:cNvPicPr/>
          <p:nvPr/>
        </p:nvPicPr>
        <p:blipFill>
          <a:blip r:embed="rId2"/>
          <a:stretch/>
        </p:blipFill>
        <p:spPr>
          <a:xfrm>
            <a:off x="104760" y="1590840"/>
            <a:ext cx="8934480" cy="47908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3"/>
          <a:stretch/>
        </p:blipFill>
        <p:spPr>
          <a:xfrm>
            <a:off x="744480" y="19414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4"/>
          <a:stretch/>
        </p:blipFill>
        <p:spPr>
          <a:xfrm>
            <a:off x="7711920" y="1967040"/>
            <a:ext cx="1432080" cy="3157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5"/>
          <a:stretch/>
        </p:blipFill>
        <p:spPr>
          <a:xfrm>
            <a:off x="760320" y="23605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4" descr=""/>
          <p:cNvPicPr/>
          <p:nvPr/>
        </p:nvPicPr>
        <p:blipFill>
          <a:blip r:embed="rId6"/>
          <a:stretch/>
        </p:blipFill>
        <p:spPr>
          <a:xfrm>
            <a:off x="7669080" y="2386080"/>
            <a:ext cx="1432080" cy="3157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7"/>
          <a:stretch/>
        </p:blipFill>
        <p:spPr>
          <a:xfrm>
            <a:off x="722160" y="27687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8"/>
          <a:stretch/>
        </p:blipFill>
        <p:spPr>
          <a:xfrm>
            <a:off x="7689960" y="2793960"/>
            <a:ext cx="1431720" cy="3160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9"/>
          <a:stretch/>
        </p:blipFill>
        <p:spPr>
          <a:xfrm>
            <a:off x="727200" y="31719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10"/>
          <a:stretch/>
        </p:blipFill>
        <p:spPr>
          <a:xfrm>
            <a:off x="7694640" y="3197160"/>
            <a:ext cx="1431720" cy="3160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11"/>
          <a:stretch/>
        </p:blipFill>
        <p:spPr>
          <a:xfrm>
            <a:off x="722160" y="35877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12"/>
          <a:stretch/>
        </p:blipFill>
        <p:spPr>
          <a:xfrm>
            <a:off x="7689960" y="3613320"/>
            <a:ext cx="1431720" cy="3157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13"/>
          <a:stretch/>
        </p:blipFill>
        <p:spPr>
          <a:xfrm>
            <a:off x="781200" y="44845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14"/>
          <a:stretch/>
        </p:blipFill>
        <p:spPr>
          <a:xfrm>
            <a:off x="755640" y="48639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4" descr=""/>
          <p:cNvPicPr/>
          <p:nvPr/>
        </p:nvPicPr>
        <p:blipFill>
          <a:blip r:embed="rId15"/>
          <a:stretch/>
        </p:blipFill>
        <p:spPr>
          <a:xfrm>
            <a:off x="755640" y="52624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16"/>
          <a:stretch/>
        </p:blipFill>
        <p:spPr>
          <a:xfrm>
            <a:off x="755640" y="56815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17"/>
          <a:stretch/>
        </p:blipFill>
        <p:spPr>
          <a:xfrm>
            <a:off x="755640" y="610092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8" name="Picture 1" descr=""/>
          <p:cNvPicPr/>
          <p:nvPr/>
        </p:nvPicPr>
        <p:blipFill>
          <a:blip r:embed="rId1"/>
          <a:stretch/>
        </p:blipFill>
        <p:spPr>
          <a:xfrm>
            <a:off x="114480" y="1285920"/>
            <a:ext cx="8915400" cy="40194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2" descr=""/>
          <p:cNvPicPr/>
          <p:nvPr/>
        </p:nvPicPr>
        <p:blipFill>
          <a:blip r:embed="rId2"/>
          <a:stretch/>
        </p:blipFill>
        <p:spPr>
          <a:xfrm>
            <a:off x="1654200" y="5411880"/>
            <a:ext cx="5343480" cy="6094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3"/>
          <a:stretch/>
        </p:blipFill>
        <p:spPr>
          <a:xfrm>
            <a:off x="727200" y="166356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4"/>
          <a:stretch/>
        </p:blipFill>
        <p:spPr>
          <a:xfrm>
            <a:off x="743040" y="25002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5"/>
          <a:stretch/>
        </p:blipFill>
        <p:spPr>
          <a:xfrm>
            <a:off x="714240" y="330192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6"/>
          <a:stretch/>
        </p:blipFill>
        <p:spPr>
          <a:xfrm>
            <a:off x="743040" y="411336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7"/>
          <a:stretch/>
        </p:blipFill>
        <p:spPr>
          <a:xfrm>
            <a:off x="743040" y="495792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Picture 1" descr=""/>
          <p:cNvPicPr/>
          <p:nvPr/>
        </p:nvPicPr>
        <p:blipFill>
          <a:blip r:embed="rId1"/>
          <a:stretch/>
        </p:blipFill>
        <p:spPr>
          <a:xfrm>
            <a:off x="684360" y="988920"/>
            <a:ext cx="7076880" cy="45529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2" descr=""/>
          <p:cNvPicPr/>
          <p:nvPr/>
        </p:nvPicPr>
        <p:blipFill>
          <a:blip r:embed="rId2"/>
          <a:stretch/>
        </p:blipFill>
        <p:spPr>
          <a:xfrm>
            <a:off x="1098720" y="5597640"/>
            <a:ext cx="6210000" cy="10000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3"/>
          <a:stretch/>
        </p:blipFill>
        <p:spPr>
          <a:xfrm>
            <a:off x="4071960" y="1714680"/>
            <a:ext cx="714240" cy="31572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4"/>
          <a:stretch/>
        </p:blipFill>
        <p:spPr>
          <a:xfrm>
            <a:off x="5286240" y="1714680"/>
            <a:ext cx="1071720" cy="3157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5"/>
          <a:stretch/>
        </p:blipFill>
        <p:spPr>
          <a:xfrm>
            <a:off x="4214880" y="2765520"/>
            <a:ext cx="714240" cy="3157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6"/>
          <a:stretch/>
        </p:blipFill>
        <p:spPr>
          <a:xfrm>
            <a:off x="6357960" y="2773440"/>
            <a:ext cx="714240" cy="3157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7"/>
          <a:stretch/>
        </p:blipFill>
        <p:spPr>
          <a:xfrm>
            <a:off x="4025880" y="3811680"/>
            <a:ext cx="714240" cy="31572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4" descr=""/>
          <p:cNvPicPr/>
          <p:nvPr/>
        </p:nvPicPr>
        <p:blipFill>
          <a:blip r:embed="rId8"/>
          <a:stretch/>
        </p:blipFill>
        <p:spPr>
          <a:xfrm>
            <a:off x="5811840" y="3822840"/>
            <a:ext cx="714240" cy="3157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9"/>
          <a:stretch/>
        </p:blipFill>
        <p:spPr>
          <a:xfrm>
            <a:off x="6727680" y="3811680"/>
            <a:ext cx="714600" cy="3157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10"/>
          <a:stretch/>
        </p:blipFill>
        <p:spPr>
          <a:xfrm>
            <a:off x="4714920" y="4873680"/>
            <a:ext cx="714240" cy="31572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11"/>
          <a:stretch/>
        </p:blipFill>
        <p:spPr>
          <a:xfrm>
            <a:off x="5786280" y="4870440"/>
            <a:ext cx="1357560" cy="31608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12"/>
          <a:stretch/>
        </p:blipFill>
        <p:spPr>
          <a:xfrm>
            <a:off x="4214880" y="5929200"/>
            <a:ext cx="714240" cy="3160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4" descr=""/>
          <p:cNvPicPr/>
          <p:nvPr/>
        </p:nvPicPr>
        <p:blipFill>
          <a:blip r:embed="rId13"/>
          <a:stretch/>
        </p:blipFill>
        <p:spPr>
          <a:xfrm>
            <a:off x="5286240" y="5924520"/>
            <a:ext cx="714600" cy="31608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4" descr=""/>
          <p:cNvPicPr/>
          <p:nvPr/>
        </p:nvPicPr>
        <p:blipFill>
          <a:blip r:embed="rId14"/>
          <a:stretch/>
        </p:blipFill>
        <p:spPr>
          <a:xfrm>
            <a:off x="6299280" y="5937120"/>
            <a:ext cx="71424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3" name="Picture 1" descr=""/>
          <p:cNvPicPr/>
          <p:nvPr/>
        </p:nvPicPr>
        <p:blipFill>
          <a:blip r:embed="rId1"/>
          <a:stretch/>
        </p:blipFill>
        <p:spPr>
          <a:xfrm>
            <a:off x="1258920" y="814320"/>
            <a:ext cx="6619680" cy="434340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2" descr=""/>
          <p:cNvPicPr/>
          <p:nvPr/>
        </p:nvPicPr>
        <p:blipFill>
          <a:blip r:embed="rId2"/>
          <a:stretch/>
        </p:blipFill>
        <p:spPr>
          <a:xfrm>
            <a:off x="3059280" y="4854600"/>
            <a:ext cx="4543200" cy="200340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4" descr=""/>
          <p:cNvPicPr/>
          <p:nvPr/>
        </p:nvPicPr>
        <p:blipFill>
          <a:blip r:embed="rId3"/>
          <a:stretch/>
        </p:blipFill>
        <p:spPr>
          <a:xfrm>
            <a:off x="2500200" y="159228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4" descr=""/>
          <p:cNvPicPr/>
          <p:nvPr/>
        </p:nvPicPr>
        <p:blipFill>
          <a:blip r:embed="rId4"/>
          <a:stretch/>
        </p:blipFill>
        <p:spPr>
          <a:xfrm>
            <a:off x="6989760" y="200808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4" descr=""/>
          <p:cNvPicPr/>
          <p:nvPr/>
        </p:nvPicPr>
        <p:blipFill>
          <a:blip r:embed="rId5"/>
          <a:stretch/>
        </p:blipFill>
        <p:spPr>
          <a:xfrm>
            <a:off x="2568600" y="281160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4" descr=""/>
          <p:cNvPicPr/>
          <p:nvPr/>
        </p:nvPicPr>
        <p:blipFill>
          <a:blip r:embed="rId6"/>
          <a:stretch/>
        </p:blipFill>
        <p:spPr>
          <a:xfrm>
            <a:off x="3997440" y="361332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4" descr=""/>
          <p:cNvPicPr/>
          <p:nvPr/>
        </p:nvPicPr>
        <p:blipFill>
          <a:blip r:embed="rId7"/>
          <a:stretch/>
        </p:blipFill>
        <p:spPr>
          <a:xfrm>
            <a:off x="2530440" y="4424400"/>
            <a:ext cx="360360" cy="31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2" name="Picture 1" descr=""/>
          <p:cNvPicPr/>
          <p:nvPr/>
        </p:nvPicPr>
        <p:blipFill>
          <a:blip r:embed="rId1"/>
          <a:stretch/>
        </p:blipFill>
        <p:spPr>
          <a:xfrm>
            <a:off x="104760" y="836640"/>
            <a:ext cx="8934480" cy="473400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2" descr=""/>
          <p:cNvPicPr/>
          <p:nvPr/>
        </p:nvPicPr>
        <p:blipFill>
          <a:blip r:embed="rId2"/>
          <a:stretch/>
        </p:blipFill>
        <p:spPr>
          <a:xfrm>
            <a:off x="490680" y="5732640"/>
            <a:ext cx="7791480" cy="10569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4" descr=""/>
          <p:cNvPicPr/>
          <p:nvPr/>
        </p:nvPicPr>
        <p:blipFill>
          <a:blip r:embed="rId3"/>
          <a:stretch/>
        </p:blipFill>
        <p:spPr>
          <a:xfrm>
            <a:off x="714240" y="3230640"/>
            <a:ext cx="360360" cy="31572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4" descr=""/>
          <p:cNvPicPr/>
          <p:nvPr/>
        </p:nvPicPr>
        <p:blipFill>
          <a:blip r:embed="rId4"/>
          <a:stretch/>
        </p:blipFill>
        <p:spPr>
          <a:xfrm>
            <a:off x="711360" y="4437000"/>
            <a:ext cx="360360" cy="3160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4" descr=""/>
          <p:cNvPicPr/>
          <p:nvPr/>
        </p:nvPicPr>
        <p:blipFill>
          <a:blip r:embed="rId5"/>
          <a:stretch/>
        </p:blipFill>
        <p:spPr>
          <a:xfrm>
            <a:off x="714240" y="5697360"/>
            <a:ext cx="360360" cy="3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3:49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